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meepmeep.wav" ContentType="audio/x-wav"/>
  <Override PartName="/ppt/media/hzipup01.wav" ContentType="audio/x-wav"/>
  <Override PartName="/ppt/media/highchime.wav" ContentType="audio/x-wav"/>
  <Override PartName="/ppt/media/jetflyby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2C6-C193-436D-871F-8B9DFC5D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E23-E560-4E6B-84AC-4967D1BC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DA1-27AD-4005-AAEB-D86ADDFE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8E4-83F0-410D-9B99-977815E8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FFB-AB08-45A1-8D80-BBBD9A68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F75-647B-4DF0-BDEE-20BFD717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29A-1668-4E32-8B18-4736D421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A55-A72D-4BC2-9C26-CD34B15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11D-6FB9-4741-937F-1FF7253A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20E-C64A-4092-9A2F-0B449A52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8B9-1F9B-4FAD-950A-59400545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C74-EEC8-402B-8B79-7924BEB1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F6AE-CBC8-496C-8E2C-AF707DCCF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meepmeep.wav"/><Relationship Id="rId4" Type="http://schemas.openxmlformats.org/officeDocument/2006/relationships/audio" Target="../media/bserie06.wav"/><Relationship Id="rId5" Type="http://schemas.openxmlformats.org/officeDocument/2006/relationships/audio" Target="../media/meepmeep.wav"/><Relationship Id="rId6" Type="http://schemas.openxmlformats.org/officeDocument/2006/relationships/audio" Target="../media/bserie06.wav"/><Relationship Id="rId7" Type="http://schemas.openxmlformats.org/officeDocument/2006/relationships/audio" Target="../media/meepmeep.wav"/><Relationship Id="rId8" Type="http://schemas.openxmlformats.org/officeDocument/2006/relationships/audio" Target="../media/bserie06.wav"/><Relationship Id="rId9" Type="http://schemas.openxmlformats.org/officeDocument/2006/relationships/audio" Target="../media/hzipup01.wav"/><Relationship Id="rId10" Type="http://schemas.openxmlformats.org/officeDocument/2006/relationships/audio" Target="../media/meepmeep.wav"/><Relationship Id="rId11" Type="http://schemas.openxmlformats.org/officeDocument/2006/relationships/audio" Target="../media/bserie06.wav"/><Relationship Id="rId12" Type="http://schemas.openxmlformats.org/officeDocument/2006/relationships/audio" Target="../media/meepmeep.wav"/><Relationship Id="rId13" Type="http://schemas.openxmlformats.org/officeDocument/2006/relationships/audio" Target="../media/bserie06.wav"/><Relationship Id="rId14" Type="http://schemas.openxmlformats.org/officeDocument/2006/relationships/audio" Target="../media/meepmeep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meepmeep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highchime.wav"/><Relationship Id="rId20" Type="http://schemas.openxmlformats.org/officeDocument/2006/relationships/audio" Target="../media/jetflyby.wav"/><Relationship Id="rId21" Type="http://schemas.openxmlformats.org/officeDocument/2006/relationships/audio" Target="../media/jetflyby.wav"/><Relationship Id="rId22" Type="http://schemas.openxmlformats.org/officeDocument/2006/relationships/audio" Target="../media/jetflyby.wav"/><Relationship Id="rId23" Type="http://schemas.openxmlformats.org/officeDocument/2006/relationships/audio" Target="../media/jetflyby.wav"/><Relationship Id="rId24" Type="http://schemas.openxmlformats.org/officeDocument/2006/relationships/audio" Target="../media/jetflyby.wav"/><Relationship Id="rId25" Type="http://schemas.openxmlformats.org/officeDocument/2006/relationships/audio" Target="../media/jetflyby.wav"/><Relationship Id="rId26" Type="http://schemas.openxmlformats.org/officeDocument/2006/relationships/audio" Target="../media/meepmeep.wav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meepmeep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jetflyby.wav"/><Relationship Id="rId20" Type="http://schemas.openxmlformats.org/officeDocument/2006/relationships/audio" Target="../media/jetflyby.wav"/><Relationship Id="rId21" Type="http://schemas.openxmlformats.org/officeDocument/2006/relationships/audio" Target="../media/jetflyby.wav"/><Relationship Id="rId22" Type="http://schemas.openxmlformats.org/officeDocument/2006/relationships/audio" Target="../media/jetflyby.wav"/><Relationship Id="rId23" Type="http://schemas.openxmlformats.org/officeDocument/2006/relationships/audio" Target="../media/jetflyby.wav"/><Relationship Id="rId24" Type="http://schemas.openxmlformats.org/officeDocument/2006/relationships/audio" Target="../media/jetflyby.wav"/><Relationship Id="rId25" Type="http://schemas.openxmlformats.org/officeDocument/2006/relationships/audio" Target="../media/meepmeep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meepmee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jetflyby.wav"/><Relationship Id="rId20" Type="http://schemas.openxmlformats.org/officeDocument/2006/relationships/audio" Target="../media/jetflyby.wav"/><Relationship Id="rId21" Type="http://schemas.openxmlformats.org/officeDocument/2006/relationships/audio" Target="../media/jetflyby.wav"/><Relationship Id="rId22" Type="http://schemas.openxmlformats.org/officeDocument/2006/relationships/audio" Target="../media/jetflyby.wav"/><Relationship Id="rId23" Type="http://schemas.openxmlformats.org/officeDocument/2006/relationships/audio" Target="../media/jetflyby.wav"/><Relationship Id="rId24" Type="http://schemas.openxmlformats.org/officeDocument/2006/relationships/audio" Target="../media/jetflyby.wav"/><Relationship Id="rId25" Type="http://schemas.openxmlformats.org/officeDocument/2006/relationships/audio" Target="../media/meepmeep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meepme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meepmeep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meepmeep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audio" Target="../media/meepmeep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Place values of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05560" y="198900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3000000">
            <a:off x="6544080" y="235872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7240" y="199692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3000000">
            <a:off x="5675760" y="236664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75040" y="19954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3000000">
            <a:off x="4739400" y="2528280"/>
            <a:ext cx="18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undr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48040" y="19954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3000000">
            <a:off x="3607920" y="2966400"/>
            <a:ext cx="29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2040" y="19954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3000000">
            <a:off x="2726640" y="304596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n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58920" y="200016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000000">
            <a:off x="1738800" y="3366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undred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64000" y="157788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46320" y="2003400"/>
            <a:ext cx="68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3000000">
            <a:off x="970200" y="303948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ill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73080" y="158436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70720" y="365292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3000000">
            <a:off x="6609240" y="402264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2400" y="36608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3000000">
            <a:off x="5741280" y="403020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40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3000000">
            <a:off x="4804200" y="419184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13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3000000">
            <a:off x="3672720" y="4630320"/>
            <a:ext cx="29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67200" y="3659040"/>
            <a:ext cx="68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3000000">
            <a:off x="2791080" y="470952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24080" y="36640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3000000">
            <a:off x="1803960" y="503028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9160" y="324180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11120" y="366696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3000000">
            <a:off x="1035360" y="470340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38240" y="32479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97680" y="118728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1508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40760" y="11811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18480" y="11937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784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94320" y="11937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24811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undred-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animMotion origin="layout" path="M -4.72222E-006 2.42775E-006 L -0.13802 0.23884 E">
                                      <p:cBhvr>
                                        <p:cTn id="18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animMotion origin="layout" path="M -1.94444E-006 -1.50289E-006 L -0.20469 0.24324 E">
                                      <p:cBhvr>
                                        <p:cTn id="19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animMotion origin="layout" path="M 2.77778E-006 -2.71676E-006 L -0.26823 0.24301 E">
                                      <p:cBhvr>
                                        <p:cTn id="19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.wav"/>
                                        </p:tgtEl>
                                      </p:cMediaNode>
                                    </p:audio>
                                    <p:animMotion origin="layout" path="M -0.00799 0.00208 L -0.31268 0.237 E">
                                      <p:cBhvr>
                                        <p:cTn id="20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.wav"/>
                                        </p:tgtEl>
                                      </p:cMediaNode>
                                    </p:audio>
                                    <p:animMotion origin="layout" path="M -4.44444E-006 -1.50289E-006 L -0.38559 0.24093 E">
                                      <p:cBhvr>
                                        <p:cTn id="21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.wav"/>
                                        </p:tgtEl>
                                      </p:cMediaNode>
                                    </p:audio>
                                    <p:animMotion origin="layout" path="M 5E-006 -2.42775E-006 L -0.44775 0.23862 E">
                                      <p:cBhvr>
                                        <p:cTn id="21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51080" y="24811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undred-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5880" y="3135240"/>
            <a:ext cx="74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value of the 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8360" y="386388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00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70720" y="365292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3000000">
            <a:off x="6609240" y="402264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02400" y="36608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3000000">
            <a:off x="5741280" y="403020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0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000000">
            <a:off x="4804200" y="419184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13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3000000">
            <a:off x="3672720" y="4630320"/>
            <a:ext cx="29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0" y="3659040"/>
            <a:ext cx="68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3000000">
            <a:off x="2791080" y="470952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24080" y="36640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3000000">
            <a:off x="1803960" y="503028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29160" y="324180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11120" y="366696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3000000">
            <a:off x="1035360" y="470340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38240" y="32479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97680" y="118728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1508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40760" y="11811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18480" y="11937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5784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94320" y="11937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13240" y="2481120"/>
            <a:ext cx="30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.wav"/>
                                        </p:tgtEl>
                                      </p:cMediaNode>
                                    </p:audio>
                                    <p:animMotion origin="layout" path="M -4.72222E-006 2.42775E-006 L -0.13802 0.23884 E">
                                      <p:cBhvr>
                                        <p:cTn id="34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animMotion origin="layout" path="M -1.94444E-006 -1.50289E-006 L -0.20469 0.24324 E">
                                      <p:cBhvr>
                                        <p:cTn id="3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animMotion origin="layout" path="M 2.77778E-006 -2.71676E-006 L -0.26823 0.24301 E">
                                      <p:cBhvr>
                                        <p:cTn id="35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animMotion origin="layout" path="M -0.00799 0.00208 L -0.31268 0.237 E">
                                      <p:cBhvr>
                                        <p:cTn id="3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.wav"/>
                                        </p:tgtEl>
                                      </p:cMediaNode>
                                    </p:audio>
                                    <p:animMotion origin="layout" path="M -4.44444E-006 -1.50289E-006 L -0.38559 0.24093 E">
                                      <p:cBhvr>
                                        <p:cTn id="37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.wav"/>
                                        </p:tgtEl>
                                      </p:cMediaNode>
                                    </p:audio>
                                    <p:animMotion origin="layout" path="M 5E-006 -2.42775E-006 L -0.44775 0.23862 E">
                                      <p:cBhvr>
                                        <p:cTn id="37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3240" y="2481120"/>
            <a:ext cx="30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5880" y="3135240"/>
            <a:ext cx="74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value of the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32240" y="384804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0720" y="365292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3000000">
            <a:off x="6609240" y="402264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02400" y="36608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3000000">
            <a:off x="5741280" y="403020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40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000000">
            <a:off x="4804200" y="419184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13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3000000">
            <a:off x="3672720" y="4630320"/>
            <a:ext cx="29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0" y="3659040"/>
            <a:ext cx="68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3000000">
            <a:off x="2791080" y="470952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080" y="36640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3000000">
            <a:off x="1803960" y="503028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29160" y="324180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11120" y="366696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3000000">
            <a:off x="1035360" y="470340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38240" y="32479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9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97680" y="118728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508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40760" y="11811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18480" y="11937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94320" y="11937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8120" y="2495520"/>
            <a:ext cx="30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.wav"/>
                                        </p:tgtEl>
                                      </p:cMediaNode>
                                    </p:audio>
                                    <p:animMotion origin="layout" path="M -4.72222E-006 2.42775E-006 L -0.13802 0.23884 E">
                                      <p:cBhvr>
                                        <p:cTn id="50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animMotion origin="layout" path="M -1.94444E-006 -1.50289E-006 L -0.20469 0.24324 E">
                                      <p:cBhvr>
                                        <p:cTn id="509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animMotion origin="layout" path="M 2.77778E-006 -2.71676E-006 L -0.26823 0.24301 E">
                                      <p:cBhvr>
                                        <p:cTn id="5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animMotion origin="layout" path="M -0.00799 0.00208 L -0.31268 0.237 E">
                                      <p:cBhvr>
                                        <p:cTn id="52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.wav"/>
                                        </p:tgtEl>
                                      </p:cMediaNode>
                                    </p:audio>
                                    <p:animMotion origin="layout" path="M -4.44444E-006 -1.50289E-006 L -0.38559 0.24093 E">
                                      <p:cBhvr>
                                        <p:cTn id="53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.wav"/>
                                        </p:tgtEl>
                                      </p:cMediaNode>
                                    </p:audio>
                                    <p:animMotion origin="layout" path="M 5E-006 -2.42775E-006 L -0.44775 0.23862 E">
                                      <p:cBhvr>
                                        <p:cTn id="537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9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8120" y="2495520"/>
            <a:ext cx="30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5880" y="3135240"/>
            <a:ext cx="74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value of the 9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2960" y="38052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mpare the numbers using &gt;, &lt;, or =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Comp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5,341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963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44880" y="2141640"/>
            <a:ext cx="364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5,341       9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11440" y="2109960"/>
            <a:ext cx="88596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6320" y="1857240"/>
            <a:ext cx="66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760" y="315756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Comp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5,163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5,614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5560" y="4021200"/>
            <a:ext cx="42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25,163       25,6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11440" y="3989520"/>
            <a:ext cx="88596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6320" y="3736800"/>
            <a:ext cx="66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760" y="496728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. Comp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25,100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25,100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1000" y="5845320"/>
            <a:ext cx="49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125,100       125,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11440" y="5799240"/>
            <a:ext cx="88596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6320" y="5546880"/>
            <a:ext cx="66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5, 1 – 1 #1-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7, 1 – 2 #1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09T11:30:58Z</dcterms:modified>
  <cp:revision>45</cp:revision>
  <dc:subject/>
  <dc:title>Slide 1</dc:title>
</cp:coreProperties>
</file>